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B2D-242F-4C08-912F-C22B5C50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044-4D08-4633-A363-988F4FC6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AE31-1A2A-4084-9A57-D4F9F957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737-AD47-4C9F-B560-79D67FD2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6B00-1820-4573-95C1-C04BBD7A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C39C-FC4A-4936-BFDE-0B4475E59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958-E5ED-4751-8659-423D3A2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072-3B13-4642-A881-CB7381D5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E68-2052-422A-B2EA-C450C8AA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899-6EEF-483C-8784-0B4C69E8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AF3-D593-4653-A602-D05EC040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E6DF-4404-42C7-ACB6-BC30CBB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BE9-835C-447E-A0E5-2661F718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61D-E82F-4B3C-9395-13ADD4FA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1F4-929C-4AE8-AEF1-8CCB7C0D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740A-7BC3-4682-A83E-BDA88638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359-9881-43BB-B13B-23C8BA17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05F-2F49-460B-A326-66EBC8AF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72F6-43C2-4690-ADC4-2F08C97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A3D3-6DEE-40FE-8903-9842D0F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3F7-3F5D-426D-8337-4F7303A3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97EF-294F-42E0-B718-1066AB38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4F7-A2CC-4F6A-B835-0FF2EA39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2DF-234C-49AC-B7B9-034948DC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C18-012E-4C54-9093-4C7FE08B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3EA-0959-4C05-ADCD-E6B61DB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361-3A1F-4019-A000-3D7F3960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8AB-B34D-408D-8E48-72EF459E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B9C-EF50-4624-BFA9-DAD30A9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B9B-7A17-4B43-A88B-1D9BE49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A470-DD24-4D30-B2BA-3B8C71DF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03B-FD4D-4BD7-B821-F26186E82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Health Reform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HP meeting May 2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Crimes and Punishments in Massachuset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295280"/>
          <a:ext cx="8229600" cy="5199120"/>
        </p:xfrm>
        <a:graphic>
          <a:graphicData uri="http://schemas.openxmlformats.org/drawingml/2006/table">
            <a:tbl>
              <a:tblPr/>
              <a:tblGrid>
                <a:gridCol w="380880"/>
                <a:gridCol w="6096240"/>
                <a:gridCol w="17524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 Cr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 F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olation of Child Labor Law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mployers Failing to Partially Subsidize a Poor Health Plan for Work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$2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legal Sale of Firearms, First Offen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00 max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iving Under the Influence, First Offen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00 m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stic Assa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000 max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uelty to or Malicious Killing of Ani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000 max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 of a Terrorist Th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000 m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ing Uninsured In Massachuset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~ $1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UNINS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BKPTC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dical Bankrupt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 change for 75% of medically bankruptcy filers who have insu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p to 50% reduction among the 25% of the medically bankruptcy who were uninsured in 2007 but will gain coverage under re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ximum expected reduction in medical bankruptcies = 12.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ADMIN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26" descr="HMOADM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26" descr="HMOCEO$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ScreenHunter_01 A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MCRO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RHMOO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UNINS76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pite high overhead HMOs prosper by cherry-p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specially in Medicare, where cherry-picking is already il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981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dministrative Co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RS cost to enforce mandate - $5-10 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ning insurance exchanges - ~4% of premiums (based on Massachuset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urance overhead - ~13% of new premium revenues = $42 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p on insurance overhead -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ized claim forms -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UBSPE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5781600" cy="79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981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le Played by Health Industry in Health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surance donations to Dems &amp; Repubs + ads in favoring AND oppo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arma - &gt;$100 million on ads supporting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nate framework written by Liz Fowler, former VP of Public Policy for Wellpoint/An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lth Care Costs -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Medicaid - $434 b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sidies for private coverage - $358 b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employer tax credits - $37 b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rary high risk pools, subsidy for retirees &lt;65, etc – ~$10 b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 figures reflect spending through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981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lth Care Costs – 2 (sav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reased Medicare Advantage/HMO overpayment  - $136 b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reased Medicare (DSH) payment to safety net hospitals - $36 b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reased Medicare fee-for-service payments to doctors/hospitals - $196 b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ther Medicare/Medicaid cuts - $87 b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 figures reflect spending through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981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 Control Provi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uranc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lth 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arative effectivenes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ud and abuse prosecution/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ternatives to F-F-S (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verage of preventiv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x on “Cadillac”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lpractice reform (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re advis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INPTK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981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lth Reform Bill:</a:t>
            </a:r>
            <a:br>
              <a:rPr sz="48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ven Cost Control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Arial"/>
              </a:rPr>
              <a:t>Hospital Computing and the Cost and Quality of Ca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ization – HIMSS surveys 2003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– Medicare/Dartmouth 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– Medicare cos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vailable for ~4,000 U.S.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ation NOT associated with lower costs of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ation NOT associated with lower administrativ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ation associated with slightly better quality scores - ? Real improvement vs. more docum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TORTR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Uninsu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# of uninsured reduced from 46 million today to ~23 million in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net hospital funding through Medicare cut by $36 billion through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unity health centers receive extra $1 billion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MI_DEL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6" descr="HMOCOP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OOPINC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mpact of Health Reform 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Underinsu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f you like your current coverage you can keep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f you don’t like your current job-based coverage, you HAVE to keep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licies required to cover at least 60% of expected health costs – e.g. $2,000 deductible + 20% co-insurance for next $15,000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000 annually in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2000 deduc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coinsurance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xt $15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achusetts Policies Available through the exchange to a 56 yo with income &gt; $32,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5:32:52Z</dcterms:created>
  <dc:creator>David Himmelstein</dc:creator>
  <dc:description/>
  <dc:language>en-US</dc:language>
  <cp:lastModifiedBy>PNHP Main</cp:lastModifiedBy>
  <dcterms:modified xsi:type="dcterms:W3CDTF">2010-05-21T00:53:37Z</dcterms:modified>
  <cp:revision>11</cp:revision>
  <dc:subject/>
  <dc:title>Slide 1</dc:title>
</cp:coreProperties>
</file>